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CC4D-7389-4D8B-BE9A-53D1012D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1732-8731-4EA3-ADEE-5B050B43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9862-EC6D-4F31-868E-144240F49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9DD-3948-4891-85A1-120DBD213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51B-EAD4-45D3-8527-4A441298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D850-D430-4274-AC0E-29642C50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7EF-DC4B-4D88-A506-5E22F903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66B-745C-44EA-B8C8-0DFEC54C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1A5-1409-4784-A585-1F700B88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0D5-8D83-4331-8A99-2ABF711F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C0A-0296-429F-B3B3-050C29D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7D1-14CD-4AF4-92FF-B86D7404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C24-34E6-4927-9029-9109AC68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B20-233D-4083-B0AD-45C10278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864-45D2-4574-A61F-FE63675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DA2-B709-4C02-9085-8B714D87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CDF-078C-4276-B260-B5C2990C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20D-AFB8-4049-A5E1-A80441D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2CD-1327-4BE1-8027-CEA8B3E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3D4-5844-4528-98A6-BC91CAD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225-6710-4E25-A55D-A7BE0FF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A514-AAB5-4FFF-B1C1-76B662D2A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b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emographic Comparison Tunisia and Zimbabw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l data from 2005 Population Data sheet unless otherwise state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www.prb.org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0880" y="5410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Apply Level 4 analysis to data - ID Level 2 Patterns Attempt to answer Level 3 why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Natural Increase / Fertility Rat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5" descr="NI"/>
          <p:cNvPicPr/>
          <p:nvPr/>
        </p:nvPicPr>
        <p:blipFill>
          <a:blip r:embed="rId2"/>
          <a:stretch/>
        </p:blipFill>
        <p:spPr>
          <a:xfrm>
            <a:off x="609480" y="1335240"/>
            <a:ext cx="7961400" cy="544644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irth rate and Death Rat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5" descr="drbr"/>
          <p:cNvPicPr/>
          <p:nvPr/>
        </p:nvPicPr>
        <p:blipFill>
          <a:blip r:embed="rId2"/>
          <a:stretch/>
        </p:blipFill>
        <p:spPr>
          <a:xfrm>
            <a:off x="685800" y="1386000"/>
            <a:ext cx="8001000" cy="5472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2005 Same Natural Increase Different Pyramid - Why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Zimbabwe   /   Tunisi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9" descr="Tunisia1995"/>
          <p:cNvPicPr/>
          <p:nvPr/>
        </p:nvPicPr>
        <p:blipFill>
          <a:blip r:embed="rId2"/>
          <a:stretch/>
        </p:blipFill>
        <p:spPr>
          <a:xfrm>
            <a:off x="4648320" y="2438280"/>
            <a:ext cx="3809880" cy="190836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7" name="Picture 11" descr="Tunisia2005"/>
          <p:cNvPicPr/>
          <p:nvPr/>
        </p:nvPicPr>
        <p:blipFill>
          <a:blip r:embed="rId3"/>
          <a:stretch/>
        </p:blipFill>
        <p:spPr>
          <a:xfrm>
            <a:off x="4648320" y="4572000"/>
            <a:ext cx="3809880" cy="1908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8" name="Picture 13" descr="zimb1995pyramid"/>
          <p:cNvPicPr/>
          <p:nvPr/>
        </p:nvPicPr>
        <p:blipFill>
          <a:blip r:embed="rId4"/>
          <a:stretch/>
        </p:blipFill>
        <p:spPr>
          <a:xfrm>
            <a:off x="685800" y="2438280"/>
            <a:ext cx="3809880" cy="190836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9" name="Picture 15" descr="zim2005pyramid"/>
          <p:cNvPicPr/>
          <p:nvPr/>
        </p:nvPicPr>
        <p:blipFill>
          <a:blip r:embed="rId5"/>
          <a:stretch/>
        </p:blipFill>
        <p:spPr>
          <a:xfrm>
            <a:off x="685800" y="4572000"/>
            <a:ext cx="3809880" cy="1908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8" descr="tunisia2015"/>
          <p:cNvPicPr/>
          <p:nvPr/>
        </p:nvPicPr>
        <p:blipFill>
          <a:blip r:embed="rId2"/>
          <a:stretch/>
        </p:blipFill>
        <p:spPr>
          <a:xfrm>
            <a:off x="4648320" y="1944720"/>
            <a:ext cx="4114800" cy="2178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2" name="Picture 10" descr="zimb2015pyramid"/>
          <p:cNvPicPr/>
          <p:nvPr/>
        </p:nvPicPr>
        <p:blipFill>
          <a:blip r:embed="rId3"/>
          <a:stretch/>
        </p:blipFill>
        <p:spPr>
          <a:xfrm>
            <a:off x="152280" y="1981080"/>
            <a:ext cx="4267440" cy="213696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3" name="Picture 15" descr="datachart"/>
          <p:cNvPicPr/>
          <p:nvPr/>
        </p:nvPicPr>
        <p:blipFill>
          <a:blip r:embed="rId4"/>
          <a:stretch/>
        </p:blipFill>
        <p:spPr>
          <a:xfrm>
            <a:off x="609480" y="4343400"/>
            <a:ext cx="7696440" cy="21654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hings to think abou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nisia seems to fit demographic transition model based on BR, DR, urban %, income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imbabwe data doesn’t fit typical mold for current LDC.  What isn’t typical and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ult rates of AIDS in Afric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5" descr="africaaidsmap"/>
          <p:cNvPicPr/>
          <p:nvPr/>
        </p:nvPicPr>
        <p:blipFill>
          <a:blip r:embed="rId2"/>
          <a:stretch/>
        </p:blipFill>
        <p:spPr>
          <a:xfrm>
            <a:off x="914400" y="2057400"/>
            <a:ext cx="4275000" cy="48006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68" name="Picture 6" descr="key"/>
          <p:cNvPicPr/>
          <p:nvPr/>
        </p:nvPicPr>
        <p:blipFill>
          <a:blip r:embed="rId3"/>
          <a:stretch/>
        </p:blipFill>
        <p:spPr>
          <a:xfrm>
            <a:off x="5638680" y="3048120"/>
            <a:ext cx="2205000" cy="2097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5638680" y="533412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prcdc.org/summaries/aidsinafrica/aidsinafrica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ossible Free Response Questi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data, maps and population pyramids identify and explain two demographic (population) problems that Zimbabwe is currently facing.  Support your explanation with specific examples and details (6 p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4:42:15Z</dcterms:created>
  <dc:creator>Social Studies</dc:creator>
  <dc:description/>
  <dc:language>en-US</dc:language>
  <cp:lastModifiedBy>Unity Rain</cp:lastModifiedBy>
  <dcterms:modified xsi:type="dcterms:W3CDTF">2011-04-24T22:12:58Z</dcterms:modified>
  <cp:revision>11</cp:revision>
  <dc:subject/>
  <dc:title>PowerPoint Presentation</dc:title>
</cp:coreProperties>
</file>